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1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696-1236-46D7-B445-EE8E62B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933-B17D-4F3C-952D-36B3B00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61E-CD8C-44A7-86DE-ABF7D57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806-EA23-40C0-A0BF-C1BCCFDE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0A9-C9B4-41D4-9A3B-8287E1DE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0CCB-E9FF-43D8-9747-716CB90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C16-BA54-45CB-8F75-B26C981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5F57-1CCF-4E15-8DA1-21389DD5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BBC-8121-4527-8869-AE21EF29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09EF-3FB0-4C1C-ABA9-024C98A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7EC5-1A61-4C85-8203-E704CF2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841-1E6A-482E-AD83-14AFD966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27AF-C19F-4375-8772-C30DBCA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DE1-6A8E-451E-AECE-A9F6157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607D-0BB4-4E86-A3A1-C60E4DD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17EF-3269-4E78-8A9B-111B672E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C8B2-7094-48B0-B05E-628CCEDB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9D5-A0DB-4B97-8DEB-AFF183B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52-ECF9-4775-8B64-2A5981EC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54A-DA0F-4FA0-A04C-9BA71F7E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2D1-A3F9-44D8-B76B-1D12E1B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F75-1389-4B49-9FF2-73D6253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B82-6D60-4F13-AC9D-8715665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9A7-EB02-4E9D-B4AF-4BDAC85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0C8-6956-475B-8015-5C34390D3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2A9-5658-4451-A245-3E485991CB5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569040" y="417996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would we do without him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Picture 7" descr="_x000e_CATANIMATE.gif      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507960" y="1206360"/>
            <a:ext cx="8128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_x0012_hitler cartoon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2743200"/>
            <a:ext cx="2222640" cy="3174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09480" y="457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n 1941, Dr. Seuss took a break from writing books. He cared about politics and during World War II drew many cartoons for a magazine. He also joined the United States Army and helped to make movies for the soldi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11" descr="_x0010_DrSeusWarPic.jpg                                               00000010_x0006_Eaglet                         ABA78158:"/>
          <p:cNvPicPr/>
          <p:nvPr/>
        </p:nvPicPr>
        <p:blipFill>
          <a:blip r:embed="rId2"/>
          <a:stretch/>
        </p:blipFill>
        <p:spPr>
          <a:xfrm>
            <a:off x="5791320" y="2438280"/>
            <a:ext cx="28638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_x0015_DrSeusWarCoverLge.jpg                                          00000010_x0006_Eaglet                         ABA78158:"/>
          <p:cNvPicPr/>
          <p:nvPr/>
        </p:nvPicPr>
        <p:blipFill>
          <a:blip r:embed="rId3"/>
          <a:stretch/>
        </p:blipFill>
        <p:spPr>
          <a:xfrm>
            <a:off x="685800" y="2895480"/>
            <a:ext cx="246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kept writing. He wrot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cElligo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Poo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idwick the Big Hearted Moos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 the Grinch Stole Christm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_x000e_mcelliotsm.JPG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990720"/>
            <a:ext cx="1828800" cy="250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_x0011_thidwicksmall.JPG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3733920" y="99072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_x000f_grinchsmall.JPG                                                001509AF_x000c_Macintosh HD                   ABA78158:"/>
          <p:cNvPicPr/>
          <p:nvPr/>
        </p:nvPicPr>
        <p:blipFill>
          <a:blip r:embed="rId3"/>
          <a:stretch/>
        </p:blipFill>
        <p:spPr>
          <a:xfrm>
            <a:off x="6324480" y="990720"/>
            <a:ext cx="1828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950, children were having a hard time reading because their books were boring! One of Dr. Seu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 friends called Mr. Geisel and told him he should write a funny book with only a few easy words in it.  It took Dr. Seuss 9 months and he used only 220 easy words. Everybody loved it!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t book w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_x0011_04seuss_small.jpg                                              00000010_x0006_Eaglet                         ABA78158:"/>
          <p:cNvPicPr/>
          <p:nvPr/>
        </p:nvPicPr>
        <p:blipFill>
          <a:blip r:embed="rId1"/>
          <a:stretch/>
        </p:blipFill>
        <p:spPr>
          <a:xfrm>
            <a:off x="3886200" y="6094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_x0012_cat in the hat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2514600" y="576360"/>
            <a:ext cx="4114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ew years later a friend gave him another challenge. Could Dr. Seuss write a book with only 50 different words in i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Dr. Seuss wrote another  very popular book.  Dr. Seuss sai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was the only book I wrote that still makes me laugh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that one 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30" descr="_x0012_greeneggssmall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609480"/>
            <a:ext cx="3949560" cy="548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32"/>
          <p:cNvSpPr/>
          <p:nvPr/>
        </p:nvSpPr>
        <p:spPr>
          <a:xfrm>
            <a:off x="4879440" y="990720"/>
            <a:ext cx="3684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n one survey,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kids said thi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was one of thei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favorite books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t has sold more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copies than any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ther title -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6,000,000 !!!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_x0014_if i ran the zoo.jpg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4800600" y="533520"/>
            <a:ext cx="3897360" cy="5333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457200" y="430200"/>
            <a:ext cx="4343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r. Seuss also wrot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is famous book. He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as inspired by th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zoo that was near hi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house when he was a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boy. He spent lots of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ime there with hi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ather who was a zookeeper and he loved to listen to the roars and songs of the animals at nigh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09480" y="6094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r. Seuss wrote 48 different books. They have been published in 28 different languages.  More than 100 million copies have been sold all over the world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 is different from many writers because most of his books are written in                         rhyme. To make rhymes,                       he would often make up                     words, like Sneetches,                        and Zizzer-zazzer-zuzz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6" name="Picture 6" descr="&#9;seuss.PCT  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019920" y="3581280"/>
            <a:ext cx="2635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_x000f_suessstudio.PCT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990720"/>
            <a:ext cx="311940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14800" y="576360"/>
            <a:ext cx="486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was still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writing books whe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he died on Sept. 24,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91 at the age o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87. His book, </a:t>
            </a: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</a:rPr>
              <a:t>Daisy-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</a:rPr>
              <a:t>Head Mayzie,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came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ut 4 year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later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Picture 5" descr="&#9;daisy.jpg        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6705720" y="4038480"/>
            <a:ext cx="1720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&#10;seusssteps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2743200" y="685800"/>
            <a:ext cx="4000680" cy="269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066680" y="37339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’s books were fun to read but they taught kids about life too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6854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One of the most famous authors of all times is Dr. Seus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 real name was Theodor Seuss Geisel. Seuss was his middle name. The doctor part he made up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3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05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&#13;hortonwho.pct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1447920" y="990720"/>
            <a:ext cx="6161040" cy="4559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 person’s a person, no matter how small!  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Horton Hears a Who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helps us care about other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_x000c_birthday.jpg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4952880" y="838080"/>
            <a:ext cx="3791160" cy="5105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533520" y="533520"/>
            <a:ext cx="4343400" cy="12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r. Seuss teaches us  to care for ourselve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Come on! Open your mouth and sound off at the sky.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Shout loud at the top of your voice, I AM I !!!!!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ME! I am I! And I may not know why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But I know that I like it. Three cheers!!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I AM I !!!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99400" y="369720"/>
            <a:ext cx="77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teaches us to be true to ourselv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33520" y="152388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brains in your head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feet in your sho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can steer yourself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y direction you choo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’re on your ow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you know what you know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are the gu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o’ll decide where to g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9" name="Picture 4" descr="_x0011_oh the places.jpg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6553080" y="2895480"/>
            <a:ext cx="19065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457200" y="380880"/>
            <a:ext cx="823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can teach us to be fair and treat people equally.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09480" y="1676520"/>
            <a:ext cx="449604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 know up on top you are seeing great sights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But down at the bottom we, too, have rights.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2" name="Picture 15" descr="&#10;yertle.pct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5562720" y="1447920"/>
            <a:ext cx="2468520" cy="3797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7"/>
          <p:cNvSpPr/>
          <p:nvPr/>
        </p:nvSpPr>
        <p:spPr>
          <a:xfrm>
            <a:off x="691200" y="4724280"/>
            <a:ext cx="804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the turtles, of course                 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Yertle the Turtle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l the turtles are free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turtles, and maybe, all creatures should b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_x0008_sneeches  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609480" y="457200"/>
            <a:ext cx="3364200" cy="3505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4495680" y="380880"/>
            <a:ext cx="40388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wrot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neetch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o address how different groups of people didn’t like each other during World War II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38080" y="396252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’m quite happy to say that the Sneetches got really smart on that day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The day they decided that Sneetches are Sneetches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And no kind of Sneetch is the best on the beaches.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&#13;one fish.jpeg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4495680" y="533520"/>
            <a:ext cx="4148280" cy="5727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64320" y="473040"/>
            <a:ext cx="4132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 Seuss books ca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ach us abou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com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g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me are fas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d some are slow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ot one of them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Is like anothe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n’t ask why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o ask your mothe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_x0010_butterbattle.JPG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380880"/>
            <a:ext cx="3657600" cy="505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&#9;lorax.JPG        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4724280" y="304920"/>
            <a:ext cx="3657600" cy="5068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767880" y="5334120"/>
            <a:ext cx="67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r. Seuss wrote books with messag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bout getting along, and pollutio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371600" y="380880"/>
            <a:ext cx="72388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books teach us about how to help the world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t a new Truffula. Treat it with car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ive it clean water. And feed it fresh ai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row a forest. Protect it from ax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at hack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n the Lorax        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all his friends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an come back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NLESS someone like you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ares a whole awful lot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Nothing is going to get better. It’s not……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6" descr="_x000b_loraxsm.JPG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400800" y="3124080"/>
            <a:ext cx="1636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533520" y="75564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read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ings you will know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learn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places you’ll go.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5" name="Picture 4" descr="_x0012_icanreadwithsm.jpg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1143000" y="3429000"/>
            <a:ext cx="2144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was born on March 2, 1904. He died on Septmeber 24, 1991 when he was 87 years ol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&#13;Birthday Cake                                                  00000436_x000f_Classroom Clips                AFAA4EE4:"/>
          <p:cNvPicPr/>
          <p:nvPr/>
        </p:nvPicPr>
        <p:blipFill>
          <a:blip r:embed="rId1"/>
          <a:stretch/>
        </p:blipFill>
        <p:spPr>
          <a:xfrm>
            <a:off x="2514600" y="5335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_x0010_seuess young.PCT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09480" y="533520"/>
            <a:ext cx="2286000" cy="295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971800" y="914400"/>
            <a:ext cx="32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hen Ted went to college, he drew  cartoons for the school newspaper. After college he made ads for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Flit,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a company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at made bug spray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8" name="Picture 7" descr="_x0004_flit                                                           000057F7_x0005_Adams                          B6AEF085:"/>
          <p:cNvPicPr/>
          <p:nvPr/>
        </p:nvPicPr>
        <p:blipFill>
          <a:blip r:embed="rId2"/>
          <a:stretch/>
        </p:blipFill>
        <p:spPr>
          <a:xfrm>
            <a:off x="6172200" y="533520"/>
            <a:ext cx="2317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838080" y="152388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thought of his firs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dea for a children’s book in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36 while on a vacation cruise.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The rhythm of the ship’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engine helped him think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f the rhyme of his first book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you guess which one 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book Dr. Seuss wrote wa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to Think That I Saw it on Mulberry Stree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Forty three different book companies rejected this book!  Finally one of Mr. Geise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friends who was a book publisher decided to make it a 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_x000c_mulberry.JPG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4495680" y="685800"/>
            <a:ext cx="4114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ext books he wrote we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500 Hats of Bartholomew Cubbi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King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Stil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artholomew and the Ooble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_x0010_500hatssmall.jpg    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76212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_x000f_stiltssmall.jpg                                                0000B59D_x000c_Macintosh HD                   ABA78158:"/>
          <p:cNvPicPr/>
          <p:nvPr/>
        </p:nvPicPr>
        <p:blipFill>
          <a:blip r:embed="rId2"/>
          <a:stretch/>
        </p:blipFill>
        <p:spPr>
          <a:xfrm>
            <a:off x="3733920" y="914400"/>
            <a:ext cx="156996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&#10;ooblek.jpg                                                     001509AF_x000c_Macintosh HD                   ABA78158:"/>
          <p:cNvPicPr/>
          <p:nvPr/>
        </p:nvPicPr>
        <p:blipFill>
          <a:blip r:embed="rId3"/>
          <a:stretch/>
        </p:blipFill>
        <p:spPr>
          <a:xfrm>
            <a:off x="6324480" y="685800"/>
            <a:ext cx="1668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day Dr. Seuss was sitting in his office with the windows open. A breeze lifted a piece of paper with an elephant sketched on it and laid it down on another drawing of a tree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I had to do was figure out what that elephant was doing in that tree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t story beca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&#10;horton.JPG 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2514600" y="595440"/>
            <a:ext cx="41148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1:50Z</dcterms:created>
  <dc:creator>Karen DeFrank</dc:creator>
  <dc:description/>
  <dc:language>en-US</dc:language>
  <cp:lastModifiedBy>Barb Regan</cp:lastModifiedBy>
  <dcterms:modified xsi:type="dcterms:W3CDTF">2008-04-09T21:02:44Z</dcterms:modified>
  <cp:revision>111</cp:revision>
  <dc:subject/>
  <dc:title>Dr. Seuss</dc:title>
</cp:coreProperties>
</file>